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4148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58520"/>
            <a:ext cx="4863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4148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F76E1A1-77E7-4E36-B78F-77A3C65866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директор по внедрению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моего выступления : «Решения компании Геликон Про: опыт и перспектив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нялись увеличением скорости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решения мы с самого начала создавали в тесной увязке друг с другом. И теперь можем предложить нашим клиентам комплексные замкнут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отметить, что наши решения созданы не на зыбкой почве абстрактных теорий, а на фундаменте большого практического опы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 можно констатировать, что мы умеем решать задачи для предприятий с самой разной отраслевой специф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подведя итоги, теперь следует сказать несколько слов о перспекти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мы собираемся более активно делиться с нашими клиентами предметными знаниями и проектным опытом. Мы уже выпустили три руководства для прикладных программистов по бухгалтерским операциям, расчету заработной платы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мы постоянно анализируем и обобщаем проектный опыт для развития и усовершенствования методологии внедрен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ечественная промышленность сегодня функционирует в следующих услов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усложняются структура и технолог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повышаются требования клиентов к качеству продукции и уровню обслуж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родолжается существенный рост цен практически на  вс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обостряется конкуренция не только с отечественными, но и с зарубежными произв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их условиях особую роль для предприятия начинает играть система производственного планирования, т.к. качественное и своевременное планирование позво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сократить издерж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увеличить эффективность использования производственных ресурсов и мощ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овысить уровень обслуживания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на российском рынке предлагается множество отечественных и зарубежных сист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P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а. Но все они по тем или иным параметрам далеки от совершенства. Поэтому наша компания поставила перед собой цель создать собственну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у для средни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1,5-2 лет в рамках системы Капитал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оздадим необходимый набор модулей для реализации системы производственного планир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96760" y="76032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36800"/>
            <a:ext cx="4862520" cy="4484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62F-159C-4A99-9611-F92F8938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150-1F72-4A17-B583-71B3393C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BC0-59B0-44C7-B963-32CC41B9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9C8-61DA-42E9-9F4A-1A242BC4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81D-7A6E-4D25-BCCB-EC490419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ADB-A5FB-4ABB-AD31-217C165D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658-000F-4FE6-B505-C9BE82CA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447-39B7-47AE-B4EC-7F4E293A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891-85E9-40A5-956D-5FBB1352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278-4EFF-4058-B2E1-53C8265F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93D-B31C-48EC-89FC-4435933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0B9-79C1-41F8-A564-E36F089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309A-D285-400A-861C-68FB95CA6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637000"/>
            <a:ext cx="5238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шения компании Геликон Пр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4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76680" y="505764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94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7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01560" y="1093680"/>
            <a:ext cx="804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НАКОПЛ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35040" y="2185920"/>
            <a:ext cx="5868720" cy="3797280"/>
            <a:chOff x="1535040" y="2185920"/>
            <a:chExt cx="5868720" cy="3797280"/>
          </a:xfrm>
        </p:grpSpPr>
        <p:sp>
          <p:nvSpPr>
            <p:cNvPr id="104" name=""/>
            <p:cNvSpPr/>
            <p:nvPr/>
          </p:nvSpPr>
          <p:spPr>
            <a:xfrm>
              <a:off x="5935320" y="535464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5040" y="218592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0840" y="229572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0840" y="527076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3760" y="536256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9680" y="536256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0840" y="285444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0840" y="40482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480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996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1440" y="327348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6120" y="447840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30400" y="348300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3960" y="348300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3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4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4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30320" y="106524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1400" y="2711520"/>
            <a:ext cx="863280" cy="685440"/>
            <a:chOff x="671400" y="2711520"/>
            <a:chExt cx="863280" cy="685440"/>
          </a:xfrm>
        </p:grpSpPr>
        <p:sp>
          <p:nvSpPr>
            <p:cNvPr id="152" name=""/>
            <p:cNvSpPr/>
            <p:nvPr/>
          </p:nvSpPr>
          <p:spPr>
            <a:xfrm>
              <a:off x="67140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940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76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612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060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8908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21200" y="3465360"/>
            <a:ext cx="151308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а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0480" y="3465360"/>
            <a:ext cx="160812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наб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сб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596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00160" y="2722680"/>
            <a:ext cx="863280" cy="685440"/>
            <a:chOff x="2000160" y="2722680"/>
            <a:chExt cx="863280" cy="685440"/>
          </a:xfrm>
        </p:grpSpPr>
        <p:sp>
          <p:nvSpPr>
            <p:cNvPr id="162" name=""/>
            <p:cNvSpPr/>
            <p:nvPr/>
          </p:nvSpPr>
          <p:spPr>
            <a:xfrm>
              <a:off x="200016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816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652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488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79560" y="2724120"/>
            <a:ext cx="863280" cy="685440"/>
            <a:chOff x="2779560" y="2724120"/>
            <a:chExt cx="863280" cy="685440"/>
          </a:xfrm>
        </p:grpSpPr>
        <p:sp>
          <p:nvSpPr>
            <p:cNvPr id="167" name=""/>
            <p:cNvSpPr/>
            <p:nvPr/>
          </p:nvSpPr>
          <p:spPr>
            <a:xfrm>
              <a:off x="277956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9592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428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956200" y="2724120"/>
            <a:ext cx="863280" cy="685440"/>
            <a:chOff x="5956200" y="2724120"/>
            <a:chExt cx="863280" cy="685440"/>
          </a:xfrm>
        </p:grpSpPr>
        <p:sp>
          <p:nvSpPr>
            <p:cNvPr id="172" name=""/>
            <p:cNvSpPr/>
            <p:nvPr/>
          </p:nvSpPr>
          <p:spPr>
            <a:xfrm>
              <a:off x="595620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420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56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092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554960" y="2719440"/>
            <a:ext cx="863280" cy="685440"/>
            <a:chOff x="7554960" y="2719440"/>
            <a:chExt cx="863280" cy="685440"/>
          </a:xfrm>
        </p:grpSpPr>
        <p:sp>
          <p:nvSpPr>
            <p:cNvPr id="177" name=""/>
            <p:cNvSpPr/>
            <p:nvPr/>
          </p:nvSpPr>
          <p:spPr>
            <a:xfrm>
              <a:off x="755496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6296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132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968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18120" y="2714760"/>
            <a:ext cx="863280" cy="685440"/>
            <a:chOff x="4218120" y="2714760"/>
            <a:chExt cx="863280" cy="685440"/>
          </a:xfrm>
        </p:grpSpPr>
        <p:sp>
          <p:nvSpPr>
            <p:cNvPr id="182" name=""/>
            <p:cNvSpPr/>
            <p:nvPr/>
          </p:nvSpPr>
          <p:spPr>
            <a:xfrm>
              <a:off x="421812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2612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3448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284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0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17720" y="77940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52960"/>
            <a:ext cx="6950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86040" y="198756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Е СКОР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ДР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2760" y="2728800"/>
            <a:ext cx="695016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эффективн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71200" y="21589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49600" y="45543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6280" y="503712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е методологии внед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79560" y="893880"/>
            <a:ext cx="70930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ОВРЕМЕННЫЕ УСЛОВИЯ ФУНКЦИОНИРОВАНИЯ ОТЕЧЕСТВЕННЫХ ПРЕД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80960" y="3094200"/>
            <a:ext cx="75186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структуры и технологий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требований клиентов к качеству продукции и уровню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енный рост цен на вс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острение конкуренции с отечественными и зарубежными произв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83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СТОИНСТВА СИСТЕМЫ ПРОИЗВОДСТВЕННОГО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846520"/>
            <a:ext cx="75186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ение издер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ение эффективности использования производственных ресурсов и мощ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уровня обслуживания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30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956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РОССИЙСКАЯ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RP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19120" y="2751120"/>
            <a:ext cx="75186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41960" y="2101680"/>
            <a:ext cx="59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овые функциональные мод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4-04-12T13:35:48Z</cp:lastPrinted>
  <dcterms:modified xsi:type="dcterms:W3CDTF">2004-04-13T09:44:57Z</dcterms:modified>
  <cp:revision>280</cp:revision>
  <dc:subject/>
  <dc:title>Слайд 1</dc:title>
</cp:coreProperties>
</file>